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159-BF83-4BA7-8923-0F057FA5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74C-82A4-47AF-97CB-75046DF8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DC0-1EB1-428C-B8D0-68979997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AB2-F78B-4BAB-8646-FB2BEB42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5A54-A4B0-4C29-9D87-46380D58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2255-34F4-414B-948E-E295B750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9BDE-A992-4082-8360-A5B84B4F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5D65-DE99-4D81-B8F8-5FCC2FA5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7585-8808-4E30-A8AA-56CBC8A9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05B4-7BB5-4F30-873D-A09D2D9B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2C29-9A41-4F81-90AA-49A388EF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B80-F3FF-4279-B5D3-1CD1489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43B8-F759-4069-8F3F-A36EC6F5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5A10-F2D4-49D9-B153-EFA51DF3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393-70F9-4B61-AF42-147C0B3C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B715-531C-406F-8196-13F89EE4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84B7-562B-48DA-8270-D1D6A5E7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BC0-1A1F-41B6-8052-71E20702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0FB-02A1-4CA8-8FC0-18EEFA4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11B-6D41-4355-A86D-1A775B9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8B9-FD03-4EAD-B111-EB149B2E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40E-00ED-425D-B778-C062421E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CB7-4BAD-448D-95B4-0AD9544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5F5-AFB1-4571-B86B-6CDB2C5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A21F-C807-4562-9D3A-C13B77B0A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CC46-AA68-4010-8E33-ABF16E63E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Мелкие млекопитающие- постоянные обитатели живого угол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050920" y="3284640"/>
            <a:ext cx="5077080" cy="3409920"/>
            <a:chOff x="2050920" y="3284640"/>
            <a:chExt cx="5077080" cy="3409920"/>
          </a:xfrm>
        </p:grpSpPr>
        <p:sp>
          <p:nvSpPr>
            <p:cNvPr id="84" name=""/>
            <p:cNvSpPr/>
            <p:nvPr/>
          </p:nvSpPr>
          <p:spPr>
            <a:xfrm>
              <a:off x="2087280" y="3321360"/>
              <a:ext cx="5003640" cy="333612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0920" y="3284640"/>
              <a:ext cx="5077080" cy="340992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бегающ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3143160" cy="4305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76720" y="1484280"/>
            <a:ext cx="34988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 среде обита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назем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лес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34000" y="2565360"/>
            <a:ext cx="4410000" cy="2303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3168360" cy="187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826920" y="4381560"/>
            <a:ext cx="2881440" cy="2476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2556000" y="1052640"/>
            <a:ext cx="792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1052640"/>
            <a:ext cx="792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8000" y="40464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 внешнему ви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лоса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ятнис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73640" y="2133720"/>
            <a:ext cx="3870360" cy="381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4130640" cy="4748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3058920" y="836640"/>
            <a:ext cx="649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907920"/>
            <a:ext cx="64944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5000"/>
            <a:ext cx="6480360" cy="4351320"/>
            <a:chOff x="1187280" y="2205000"/>
            <a:chExt cx="6480360" cy="4351320"/>
          </a:xfrm>
        </p:grpSpPr>
        <p:sp>
          <p:nvSpPr>
            <p:cNvPr id="145" name=""/>
            <p:cNvSpPr/>
            <p:nvPr/>
          </p:nvSpPr>
          <p:spPr>
            <a:xfrm>
              <a:off x="1233720" y="2251800"/>
              <a:ext cx="6386400" cy="425700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05000"/>
              <a:ext cx="6480360" cy="435132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Млекопитающие- теплокровные животные. Это означает, что температура их тела остается неизменной независимо от температуры воздуха или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Живая природа- это удивительный, сложный, многогранный мир. Особое место в нем отведено живот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Животный мир является одним из основных компонентов природной среды, важной составной частью природных богатств нашей Родины. Он служит источником для получения промышленного, лекарственного сырья, пищевых продуктов и других материальных ценностей, необходимых для удовлетворения потребностей населения и народного хозяйства. Животный мир используется также в научных, культурно- просветительских и эстетических цел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35640" y="5253120"/>
            <a:ext cx="2411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Биоэкологическая характеристика класса млекопитающи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Млекопитающие имеют ряд отличий от других представителей подтипа Позвоноч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Их тело покрыто шерсть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Практически все звери имеют зуб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Весьма совершенны органы чувст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Млекопитающие выкармливают детенышей молоком, за что и получили соответствующее наз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Их поведение сложнее, чем у других позвоноч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Лучше выражена способность к обучению и общению друг с дру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24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Класс млекопитающих подразделяются на три подкласс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Низшие звери,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куда входят только два рода: Утконос и Ехидна; откладывают яйца, но выкармливают детенышей молок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умчатые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, которое рождают крошечных детенышей и затем вынашивают их в специальной сумке на живо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Высшие звери (Плацентарные),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которые вынашивают детенышей в специальном органе-матке-до тех пор, пока они не станут достаточно зрелыми; для этого в матке формируется временный орган-плацента, с помощью которого зародыш получает питательные вещества из крови матери; этот орган и дал название всему подклассу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Подкласс Плацентарные делится на несколько отрядов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секомоядные (еж, землеройк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Грызуны (мыши, крысы, белки, бурундуки, полевки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Зайцеобразные (зайцы, кролик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озоленогие (верблюды дву-, одно- и безгорбый, лам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Парнокопытные (коровы, козы, овцы, олени, жираф, бегемот и п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епарнокопытные (лошади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Ластоногие (моржи, тюлени, морские льв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84720" y="5203800"/>
            <a:ext cx="22672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Китообразные (киты, дельфин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Хоботные (слоны индийский, африканский, вымершие мамонт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Обезьяны, или Приматы (шимпанзе, горилла, мартышка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укокрылые (летучие мыши, вампир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Хищные (семейства волчьих, пантер, медвежьих, куньих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екоторые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етям дошкольного возраста знакомы представители всех выше названных отря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16360" y="4392720"/>
            <a:ext cx="3671640" cy="2465280"/>
            <a:chOff x="2916360" y="4392720"/>
            <a:chExt cx="3671640" cy="2465280"/>
          </a:xfrm>
        </p:grpSpPr>
        <p:sp>
          <p:nvSpPr>
            <p:cNvPr id="98" name=""/>
            <p:cNvSpPr/>
            <p:nvPr/>
          </p:nvSpPr>
          <p:spPr>
            <a:xfrm>
              <a:off x="2942640" y="4419360"/>
              <a:ext cx="3618360" cy="241200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16360" y="4392720"/>
              <a:ext cx="3671640" cy="246528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Классификации мелких млекопитающих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На основе взаимосвязи с челове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Домашние                                             ди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1671480" cy="19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771640" y="2924280"/>
            <a:ext cx="2160720" cy="176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9280" y="4826160"/>
            <a:ext cx="5113440" cy="2031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104240" y="2741760"/>
            <a:ext cx="2039760" cy="4116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364000" y="3933720"/>
            <a:ext cx="1722600" cy="138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92800" y="268272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186920" y="2205000"/>
            <a:ext cx="863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4000" y="2205000"/>
            <a:ext cx="647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 способу пита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хищ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растительноя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041560" cy="5300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12000" y="1557360"/>
            <a:ext cx="1407960" cy="5300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>
            <a:off x="2627280" y="907920"/>
            <a:ext cx="6494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907920"/>
            <a:ext cx="503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По способу передвиж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летающ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0384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лазающ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932360" cy="398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1850760" cy="237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075440" y="4221000"/>
            <a:ext cx="2068560" cy="2305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2627280" y="1125360"/>
            <a:ext cx="432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1052640"/>
            <a:ext cx="7192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8:33:10Z</dcterms:created>
  <dc:creator>XTreme</dc:creator>
  <dc:description/>
  <dc:language>en-US</dc:language>
  <cp:lastModifiedBy>XTreme</cp:lastModifiedBy>
  <dcterms:modified xsi:type="dcterms:W3CDTF">2010-05-31T20:07:15Z</dcterms:modified>
  <cp:revision>3</cp:revision>
  <dc:subject/>
  <dc:title>Мелкие млекопитающие- постоянные обитатели живого уголка</dc:title>
</cp:coreProperties>
</file>